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069-070C-4CE4-A7C0-DA72A06D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D6F-23BB-4299-A56D-C16C10EC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59B-CB72-4A32-9B83-522B8CBF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64F-C1A7-4512-9393-B88C0FE6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A41-8D92-46BB-811E-1CF58FFB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595-CD19-4D35-9B98-05BFDD02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234-3001-4699-B9C4-6058207C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F1F-D819-4A34-95D7-7FE64129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FD5-03F6-49BF-94DB-4956B3C2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819-369A-4925-9D28-4C08143C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E57-0471-4924-882A-45E37796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7E0-6661-49D6-A609-4ABAB20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9066-ED68-4C9F-8435-3AB026117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5;&#1043;&#1069;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3640" y="188640"/>
            <a:ext cx="35956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Деятельность мозга </a:t>
            </a:r>
            <a:br>
              <a:rPr sz="3200"/>
            </a:b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и </a:t>
            </a:r>
            <a:br>
              <a:rPr sz="3200"/>
            </a:b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пит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89744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оможет успешно грызть гранит на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Черник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способствует кровообращению мозга. Лучше всего есть свежие ягоды или варен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Е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Что происходит с нами, когда мы мысли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Непрерывно работ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свыше 100 миллиар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нервных клет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причем каждая связана с еще 10000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Как работает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Каждую секунду нервные клетки одновременно обмениваются информацией и подают миллионы сигналов. Для того чтобы этот сложнейший механизм функционировал без сбоев, клеткам серого вещества мозга необходимо большое количество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работает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Мозг ежедневно забирает 20 процентов всей энергии, получаемой с пищей. Таким образом, то, что мы едим, решающим образом сказывается на работоспособности нашего моз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лучшить память помож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11280" y="1196640"/>
            <a:ext cx="6400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Морков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собенно облегчает заучивание чего-либо наизусть за счет того, что стимулирует обмен веществ в мозгу. Наш совет: перед зубрежкой съесть тарелку тертой моркови с растительным мас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089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одукты для улучшения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Ананас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— любимый фрукт театральных и музыкальных звезд. Тот, кому необходимо удерживать в памяти большой объем текста или нотных знаков, нуждается в витамине С, который в достаточном количестве содержится в этом фрукте. Кроме того, в ананасах очень мало калорий (в 100 г всего 56). Достаточно выпивать 1 стакан ананасового сока в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может …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умн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33"/>
                </a:solidFill>
                <a:uFillTx/>
                <a:latin typeface="Arial"/>
              </a:rPr>
              <a:t>Авокад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 источник энергии для кратковременной памяти (например, при составлении планов, расписаний, списков покупок и т.д.) за счет высокого содержания жирных кислот. Достаточно половины пл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008080"/>
                </a:solidFill>
                <a:uFillTx/>
                <a:latin typeface="Arial"/>
              </a:rPr>
              <a:t>Успешно грызть гранит науки помогает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апус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нимает нервозность. так как снижает активность щитовидной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прошел «мандраж», съешьте салат из капусты перед экзаменами, и вы спокойно к ним подготов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кусно и очень полез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Лимон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ежает мысли и облегчает восприятие информации за счет ударной дозы витамина 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занятиями иностранным языком неплохо выпить стаканчик лимонного с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4437000"/>
            <a:ext cx="2124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2:42Z</dcterms:created>
  <dc:creator>User</dc:creator>
  <dc:description/>
  <dc:language>en-US</dc:language>
  <cp:lastModifiedBy>Сарабарова</cp:lastModifiedBy>
  <dcterms:modified xsi:type="dcterms:W3CDTF">2009-03-20T12:56:32Z</dcterms:modified>
  <cp:revision>9</cp:revision>
  <dc:subject/>
  <dc:title>Деятельность мозга и питание.</dc:title>
</cp:coreProperties>
</file>